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C62-BC0F-41C3-929A-5941487F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033-10B8-4C66-AC8B-8DA42C6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B2D-537C-4924-AC59-74E42A90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6EE-531B-4B61-9AAC-EA4BB9F9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107-454C-4673-83BE-1495C701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68FF-AD3C-4F9E-B779-F1AA535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B23B-CA19-437F-94CC-9F37D83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E291-188F-4D6C-9001-2DE7EBC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FF7-9AFE-4AFC-AFDD-609EEAAC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4732-358A-4806-AA7D-58F7F516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2D62-2C13-4282-B060-4F09A4D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E1E-3D58-40FD-9A2D-48250613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AD4E-9235-47F7-A15E-F3938BF0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D88E-3C33-4C81-B53C-1731687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070-A0D2-46BE-B886-B26D91E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05F-FFB4-40B4-8E53-D82A1CE7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1822-0840-45BA-9209-07598BEA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C6D-8BC5-47CD-A62C-B0FFEBFD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F66-5048-4E29-BFB3-063CF35B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EB7-96C3-46ED-B429-46E3984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67F-2953-4482-A02A-188317D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92F-374D-4231-A6A4-A88A126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33D-C385-4103-A732-A1B2602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5FA-4647-4FAA-93B4-B363BBB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F1C-4FB7-4B98-BA72-8DF76511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A77-E76C-4719-8C32-FB55396C6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g.cox.miami.edu/~cmallery/150/memb/fluidmosaic.jpg" TargetMode="External"/><Relationship Id="rId2" Type="http://schemas.openxmlformats.org/officeDocument/2006/relationships/hyperlink" Target="http://fig.cox.miami.edu/~cmallery/150/cells/c7x14blysosomes.jp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orthland.cc.mn.us/biology/Biology1111/animations/transport1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lark.net/osmosisPocus.gif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ig.cox.miami.edu/~cmallery/150/memb/uniport.jpg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ell Membran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19720" cy="41925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Another model of phospholipid bilayer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2019240"/>
            <a:ext cx="7620120" cy="35816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y does the phospholipid have a head and a tail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hydrophilic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t likes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tai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hydrophobic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t doesn’t lik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hese 2 parts function to create a barrier between the liquid outside and inside the cell.  The strength of the barrier depends on the type of fats in the tail of the phospholi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fig.cox.miami.edu/~cmallery/150/memb/c8x4memb-fluidity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Maiandra GD"/>
              </a:rPr>
              <a:t>How does the cell membrane control what goes into and out of the cell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Maiandra GD"/>
              </a:rPr>
              <a:t>[4 Ways]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Active transpo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Passive transpo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CARRIER PROTEINS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aiandra G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0066"/>
                </a:solidFill>
                <a:uFillTx/>
                <a:latin typeface="Maiandra GD"/>
                <a:hlinkClick r:id="rId2"/>
              </a:rPr>
              <a:t>ENGULFING partic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Introduction to transpor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Transport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– movement across the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Two types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of transport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Passive &amp;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animations of passive and activ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Concentration Gradient –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movement of things from areas of high concentration to areas of low concen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Passive Transpor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does NOT require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goes with the concentration grad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monstration – marker rolling down the angl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are the forms of passive transport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Facilitated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on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is 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Diffusion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Diffusion 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s movement from high concentration to low concentration in order to reach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mell of cookies traveling 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Food coloring diffuses through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People spread out in a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quilibrium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means the concentration is the same throughout th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is Osmosis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iffusion of or through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13320" y="1066680"/>
            <a:ext cx="4646520" cy="54104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Osmotic solu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ypertonic solution  =  "more solute, less water"     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ypotonic solution    =  "less solute, more water" 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sotonic solution       =  "equal solute and water"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animation showing osmoti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Facilitated diffusion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olecules that can not pass through the lipid bilayer on their own pass through special protei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705720" cy="26049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se notes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your reading on the cell membrane (p182 -189 of your Unit 3 pack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your notes and book to complet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zz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“osmotic egg”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Ion channels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p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ive ion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81952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305160" cy="212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43200" y="4495680"/>
            <a:ext cx="4114800" cy="26496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Na-K Pum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162920" cy="48481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Points of inter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 pumps, it is possible for more than solute to be transported at 1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uniport  -  single solute in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ymport -  2 solutes simultaneously in sam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Often one is actively transported and the other is passively trans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Maiandra GD"/>
                <a:hlinkClick r:id="rId1"/>
              </a:rPr>
              <a:t>antiport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*  -  1 solute in &amp; 1 solute out -opposite dire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Active Transpor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requires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goes against the concentration grad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monstration – rolling marker up an angl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Maiandra GD"/>
              </a:rPr>
              <a:t>What are the Forms of Active Transport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Some protein path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nd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x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Maiandra GD"/>
              </a:rPr>
              <a:t>What is a pathway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427200" cy="51055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</a:t>
            </a:r>
            <a:r>
              <a:rPr b="1" lang="en-US" sz="4400" spc="-1" strike="noStrike">
                <a:solidFill>
                  <a:srgbClr val="221304"/>
                </a:solidFill>
                <a:latin typeface="Maiandra GD"/>
              </a:rPr>
              <a:t>Endocytosis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 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4304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ndocytosi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cell ingests stuff from the environment and forms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inocytosi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involves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hagocytos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– involve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916360" cy="236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276720" cy="21132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Exocytosi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Exocytosi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– vesicle releases contents from a cell to the out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ets rid of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ransports out items produced by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00600" y="2217600"/>
            <a:ext cx="3886200" cy="36496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La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omplete the assigned labs (carrot and egg) to view osmosis and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rst a Re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karyotes /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Maiandra GD"/>
              </a:rPr>
              <a:t>Cell theory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ll living things are 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ell can only come from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ll functions of a living thing are carried out in cells (respiration, metabolism, growth, adaptations to the environment, reproduction, homeostasis and interdep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Maiandra GD"/>
              </a:rPr>
              <a:t>Prokaryotes &amp;Eukaryo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lasmid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lack membrane bound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nuclear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bound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ave membrane bound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 u="sng">
                <a:solidFill>
                  <a:srgbClr val="000000"/>
                </a:solidFill>
                <a:uFillTx/>
                <a:latin typeface="Showcard Gothic"/>
              </a:rPr>
              <a:t>ALL</a:t>
            </a:r>
            <a:r>
              <a:rPr b="0" lang="en-US" sz="7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CEL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(Yes, both prokaryotes and eukaryotes)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have a</a:t>
            </a: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Showcard Gothic"/>
              </a:rPr>
              <a:t>CELL MEMBRANE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is a cell </a:t>
            </a: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membran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 cell membrane is the part of a cell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provides 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regulate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what goes into and out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4800600" cy="25225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is a cell membrane made of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 cell membrane is mad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 phospholipid bi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hospho = phosph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pid= f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Bi =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nd other things we’ll talk about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 % composition of lipids in various cell memb. http://fig.cox.miami.edu/~cmallery/150/memb/Lipidtbl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360520"/>
            <a:ext cx="3962520" cy="30751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Maiandra GD"/>
              </a:rPr>
              <a:t>What does the phospholipid bilayer look lik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4038480" cy="313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715000" cy="36892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3:58:50Z</dcterms:created>
  <dc:creator>sada</dc:creator>
  <dc:description/>
  <dc:language>en-US</dc:language>
  <cp:lastModifiedBy>SGANSK</cp:lastModifiedBy>
  <dcterms:modified xsi:type="dcterms:W3CDTF">2008-06-23T17:46:04Z</dcterms:modified>
  <cp:revision>27</cp:revision>
  <dc:subject/>
  <dc:title>The Cell Membrane </dc:title>
</cp:coreProperties>
</file>